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1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9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0480" y="3694320"/>
            <a:ext cx="7194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24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048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724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3000" y="129528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520" y="129528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0480" y="369432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3000" y="369432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520" y="369432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724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724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048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724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724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0480" y="3694320"/>
            <a:ext cx="7194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fddfe7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804960">
              <a:lnSpc>
                <a:spcPct val="90000"/>
              </a:lnSpc>
              <a:spcBef>
                <a:spcPts val="2100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3" marL="919080">
              <a:lnSpc>
                <a:spcPct val="90000"/>
              </a:lnSpc>
              <a:spcBef>
                <a:spcPts val="2100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4" marL="1033560">
              <a:lnSpc>
                <a:spcPct val="90000"/>
              </a:lnSpc>
              <a:spcBef>
                <a:spcPts val="2100"/>
              </a:spcBef>
              <a:buClr>
                <a:srgbClr val="6633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5" marL="1033560">
              <a:lnSpc>
                <a:spcPct val="90000"/>
              </a:lnSpc>
              <a:spcBef>
                <a:spcPts val="2100"/>
              </a:spcBef>
              <a:buClr>
                <a:srgbClr val="6633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6" marL="1033560">
              <a:lnSpc>
                <a:spcPct val="90000"/>
              </a:lnSpc>
              <a:spcBef>
                <a:spcPts val="2100"/>
              </a:spcBef>
              <a:buClr>
                <a:srgbClr val="6633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6.xml"/><Relationship Id="rId8" Type="http://schemas.openxmlformats.org/officeDocument/2006/relationships/slide" Target="slide36.xml"/><Relationship Id="rId9" Type="http://schemas.openxmlformats.org/officeDocument/2006/relationships/slide" Target="slide36.xml"/><Relationship Id="rId10" Type="http://schemas.openxmlformats.org/officeDocument/2006/relationships/slide" Target="slide36.xml"/><Relationship Id="rId11" Type="http://schemas.openxmlformats.org/officeDocument/2006/relationships/slide" Target="slide36.xml"/><Relationship Id="rId12" Type="http://schemas.openxmlformats.org/officeDocument/2006/relationships/slide" Target="slide36.xml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2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章  浏览器的使用与邮件收发</a:t>
            </a: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2.1  IE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2" action="ppaction://hlinksldjump"/>
              </a:rPr>
              <a:t>浏览器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3" action="ppaction://hlinksldjump"/>
              </a:rPr>
              <a:t>2.2  邮件收发——</a:t>
            </a:r>
            <a:r>
              <a:rPr b="1" lang="en-US" sz="28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4" action="ppaction://hlinksldjump"/>
              </a:rPr>
              <a:t>Foxmail</a:t>
            </a:r>
            <a:r>
              <a:rPr b="1" lang="en-US" sz="28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381480" y="2200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775320" cy="389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057400" y="5562720"/>
            <a:ext cx="5486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9  “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分级审查”对话框之“分级”标签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“连接”标签的设置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-279360" algn="just">
              <a:lnSpc>
                <a:spcPct val="8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在如图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2-1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所示的“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Internet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属性”对话框中，单击“连接”标签，在“拨号设置”框中列出已经建立的连接，如下图所示。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22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3494160" cy="3581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580360" y="2362320"/>
            <a:ext cx="127764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10  “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Internet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属性”对话框之“连接”标签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652840" y="1967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043600" cy="3841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05120" y="5486400"/>
            <a:ext cx="5333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11  “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Internet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连接向导”对话框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300480" y="2147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3525840" cy="3552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3000" y="5334120"/>
            <a:ext cx="510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12  “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网络服务中心设置” 对话框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3000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352680" cy="1257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4120" y="3825720"/>
            <a:ext cx="2971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13  “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高级拨号”对话框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宋体"/>
              </a:rPr>
              <a:t>2.1.2  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使用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宋体"/>
              </a:rPr>
              <a:t>IE</a:t>
            </a: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1218960"/>
            <a:ext cx="7635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IE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界面的组成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2624040" y="1971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94" name="IE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5267160" cy="3940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5400" y="2133720"/>
            <a:ext cx="546120" cy="32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15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网易主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040" y="135108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工具栏的使用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单击“查看”菜单并指向“工具栏”，使其下的“标准按钮”、“地址栏”、“链接”被选中。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依次单击“搜索”、“收藏”、 “历史”三个按钮，左边窗口依次出现搜索栏、收藏夹栏、历史记录栏，再次单击“历史”按钮，可见左边窗口消失。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将鼠标移到“链接”按钮左边的拆分条上，就可显示链接的网页。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单击“邮件”按钮，则可以打开“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Outlook Express”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窗口。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9933"/>
              </a:solidFill>
              <a:latin typeface="Arial Narrow"/>
              <a:ea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19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地址栏的使用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2319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0" name="ie2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05520" cy="3025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8120" y="533412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16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地址栏的使用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9933"/>
              </a:solidFill>
              <a:latin typeface="Arial Narrow"/>
              <a:ea typeface="宋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．浏览栏的使用</a:t>
            </a:r>
            <a:r>
              <a:rPr b="1" lang="zh-CN" sz="2800" spc="-1" strike="noStrike">
                <a:solidFill>
                  <a:srgbClr val="6633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使用搜索栏（如图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2-17~2-20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所示）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使用收藏夹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）将网页添加到收藏夹（如图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2-21~</a:t>
            </a:r>
            <a:r>
              <a:rPr b="1" lang="zh-CN" sz="2800" spc="-1" strike="noStrike">
                <a:solidFill>
                  <a:srgbClr val="663300"/>
                </a:solidFill>
                <a:latin typeface="Arial Narrow"/>
                <a:ea typeface="宋体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2-29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所示</a:t>
            </a:r>
            <a:r>
              <a:rPr b="1" lang="zh-CN" sz="2800" spc="-1" strike="noStrike">
                <a:solidFill>
                  <a:srgbClr val="663300"/>
                </a:solidFill>
                <a:latin typeface="Arial Narrow"/>
                <a:ea typeface="宋体"/>
              </a:rPr>
              <a:t> ）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）整理收藏夹（如图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2-30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所示）</a:t>
            </a:r>
            <a:r>
              <a:rPr b="1" lang="zh-CN" sz="2800" spc="-1" strike="noStrike">
                <a:solidFill>
                  <a:srgbClr val="6633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使用历史记录栏（如图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2-31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所示）</a:t>
            </a:r>
            <a:r>
              <a:rPr b="1" lang="zh-CN" sz="2800" spc="-1" strike="noStrike">
                <a:solidFill>
                  <a:srgbClr val="6633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33720" y="2533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5" name="IE3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2308320" cy="3238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66680" y="4648320"/>
            <a:ext cx="3200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17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输入查找内容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2533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8" name="IE4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2122560" cy="293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62520" y="5105520"/>
            <a:ext cx="3809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18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显示搜索结果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43280" y="2405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11" name="IE5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5562360" cy="329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28920" y="2943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13" name="IE6" descr=""/>
          <p:cNvPicPr/>
          <p:nvPr/>
        </p:nvPicPr>
        <p:blipFill>
          <a:blip r:embed="rId2"/>
          <a:stretch/>
        </p:blipFill>
        <p:spPr>
          <a:xfrm>
            <a:off x="1219320" y="4191120"/>
            <a:ext cx="4343400" cy="1697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5880" y="4724280"/>
            <a:ext cx="2133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20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在网页中查找文本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70120" y="1249200"/>
            <a:ext cx="549360" cy="195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26280" y="609480"/>
            <a:ext cx="54612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19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打开网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宋体"/>
              </a:rPr>
              <a:t>2.1 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  <a:ea typeface="宋体"/>
              </a:rPr>
              <a:t>IE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宋体"/>
              </a:rPr>
              <a:t>浏览器</a:t>
            </a: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" action="ppaction://hlinksldjump"/>
              </a:rPr>
              <a:t>2.1.1  </a:t>
            </a:r>
            <a:r>
              <a:rPr b="1" lang="en-US" sz="28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2" action="ppaction://hlinksldjump"/>
              </a:rPr>
              <a:t>IE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3" action="ppaction://hlinksldjump"/>
              </a:rPr>
              <a:t>的基本设置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4" action="ppaction://hlinksldjump"/>
              </a:rPr>
              <a:t> 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宋体"/>
                <a:hlinkClick r:id="rId5" action="ppaction://hlinksldjump"/>
              </a:rPr>
              <a:t>2.1.2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6" action="ppaction://hlinksldjump"/>
              </a:rPr>
              <a:t>使用</a:t>
            </a:r>
            <a:r>
              <a:rPr b="1" lang="en-US" sz="2800" spc="-1" strike="noStrike" u="sng">
                <a:solidFill>
                  <a:srgbClr val="618ffd"/>
                </a:solidFill>
                <a:uFillTx/>
                <a:latin typeface="Arial"/>
                <a:ea typeface="宋体"/>
                <a:hlinkClick r:id="rId7" action="ppaction://hlinksldjump"/>
              </a:rPr>
              <a:t>IE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6461280" y="628956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">
            <a:hlinkClick r:id="rId8" action="ppaction://hlinksldjump"/>
          </p:cNvPr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返回首页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610000" y="1995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162760" cy="3772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14600" y="5486400"/>
            <a:ext cx="3809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21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收藏夹栏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338640" y="2562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114800" cy="2890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4876920"/>
            <a:ext cx="510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22  “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添加收藏夹”对话框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95600" y="2948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24280" y="2241720"/>
            <a:ext cx="3733920" cy="1670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33920" y="4343400"/>
            <a:ext cx="4647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23  “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新建文件夹”对话框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328920" y="2552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374760"/>
            <a:ext cx="4343400" cy="3062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181480" y="1523880"/>
            <a:ext cx="304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24  “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脱机收藏夹向导”对话框之一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28920" y="2552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267080" y="3549600"/>
            <a:ext cx="3733920" cy="2631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38080" y="4343400"/>
            <a:ext cx="3429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25    “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脱机收藏夹向导”对话框之二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324240" y="2552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191120" cy="29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181480" y="1676520"/>
            <a:ext cx="2971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26  “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脱机收藏夹向导”对话框之三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24240" y="2552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3962520" cy="2782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09480" y="4343400"/>
            <a:ext cx="3429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27  “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脱机收藏夹向导”对话框之四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324240" y="2557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4267080" cy="2981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029200" y="1981080"/>
            <a:ext cx="3200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28  “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脱机收藏夹向导”对话框之五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7920" y="3019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114800" y="4114800"/>
            <a:ext cx="4191120" cy="1297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5800" y="4495680"/>
            <a:ext cx="3886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29  “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同步”窗口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57800" y="1447920"/>
            <a:ext cx="2743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30  “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整理收藏夹”对话框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0520" y="2619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2832120" cy="2971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447920" y="4343400"/>
            <a:ext cx="3124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31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历史记录的查看方式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0" name="">
            <a:hlinkClick r:id="rId3" action="ppaction://hlinksldjump"/>
          </p:cNvPr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宋体"/>
              </a:rPr>
              <a:t>2.2  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宋体"/>
              </a:rPr>
              <a:t>邮件收发——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  <a:ea typeface="宋体"/>
              </a:rPr>
              <a:t>Foxmail</a:t>
            </a:r>
            <a:r>
              <a:rPr b="1" lang="en-US" sz="3600" spc="-1" strike="noStrike">
                <a:solidFill>
                  <a:srgbClr val="ff9933"/>
                </a:solidFill>
                <a:latin typeface="Arial Narrow"/>
                <a:ea typeface="宋体"/>
              </a:rPr>
              <a:t> </a:t>
            </a: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宋体"/>
                <a:hlinkClick r:id="rId1" action="ppaction://hlinksldjump"/>
              </a:rPr>
              <a:t>2.2.1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2" action="ppaction://hlinksldjump"/>
              </a:rPr>
              <a:t>启动</a:t>
            </a:r>
            <a:r>
              <a:rPr b="1" lang="en-US" sz="2800" spc="-1" strike="noStrike" u="sng">
                <a:solidFill>
                  <a:srgbClr val="618ffd"/>
                </a:solidFill>
                <a:uFillTx/>
                <a:latin typeface="Arial"/>
                <a:ea typeface="宋体"/>
                <a:hlinkClick r:id="rId3" action="ppaction://hlinksldjump"/>
              </a:rPr>
              <a:t>Foxmail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宋体"/>
                <a:hlinkClick r:id="rId4" action="ppaction://hlinksldjump"/>
              </a:rPr>
              <a:t>2.2.2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黑体"/>
                <a:hlinkClick r:id="rId5" action="ppaction://hlinksldjump"/>
              </a:rPr>
              <a:t>设置</a:t>
            </a:r>
            <a:r>
              <a:rPr b="1" lang="en-US" sz="2800" spc="-1" strike="noStrike" u="sng">
                <a:solidFill>
                  <a:srgbClr val="618ffd"/>
                </a:solidFill>
                <a:uFillTx/>
                <a:latin typeface="Arial"/>
                <a:ea typeface="宋体"/>
                <a:hlinkClick r:id="rId6" action="ppaction://hlinksldjump"/>
              </a:rPr>
              <a:t>Foxmail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ea typeface="Times New Roman"/>
                <a:hlinkClick r:id="rId7" action="ppaction://hlinksldjump"/>
              </a:rPr>
              <a:t>2.2.3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8" action="ppaction://hlinksldjump"/>
              </a:rPr>
              <a:t>  </a:t>
            </a:r>
            <a:r>
              <a:rPr b="1" lang="en-US" sz="2800" spc="-1" strike="noStrike" u="sng">
                <a:solidFill>
                  <a:srgbClr val="618ffd"/>
                </a:solidFill>
                <a:uFillTx/>
                <a:latin typeface="Arial"/>
                <a:ea typeface="Times New Roman"/>
                <a:hlinkClick r:id="rId9" action="ppaction://hlinksldjump"/>
              </a:rPr>
              <a:t>Foxmai</a:t>
            </a:r>
            <a:r>
              <a:rPr b="1" lang="en-US" sz="28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0" action="ppaction://hlinksldjump"/>
              </a:rPr>
              <a:t>l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Times New Roman"/>
                <a:ea typeface="黑体"/>
                <a:hlinkClick r:id="rId11" action="ppaction://hlinksldjump"/>
              </a:rPr>
              <a:t>的使用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2" action="ppaction://hlinksldjump"/>
              </a:rPr>
              <a:t> 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53" name="">
            <a:hlinkClick r:id="rId13" action="ppaction://hlinksldjump"/>
          </p:cNvPr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返回首页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宋体"/>
              </a:rPr>
              <a:t>2.2.1  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启动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宋体"/>
              </a:rPr>
              <a:t>Foxmail</a:t>
            </a: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7940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单击下载后图标即可以启动如图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2-37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所示的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Foxmail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向导。输入用户名，单击“下一步”“下一步”如下图所示。 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3138480" y="2428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57" name="FOX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4086000" cy="2851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98400" y="2590920"/>
            <a:ext cx="91188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37 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Foxmail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向导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38480" y="2428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60" name="fox2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633920" cy="3233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23880" y="5181480"/>
            <a:ext cx="586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38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输入发送者姓名和回复地址之一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138480" y="2433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63" name="fox3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314600" cy="2995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52480" y="5181480"/>
            <a:ext cx="563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39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输入发送者姓名和回复地址之二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宋体"/>
              </a:rPr>
              <a:t>2.1.1  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  <a:ea typeface="宋体"/>
              </a:rPr>
              <a:t>IE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宋体"/>
              </a:rPr>
              <a:t>的基本设置</a:t>
            </a: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559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“常规”标签的设置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-279360" algn="just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在控制面板中双击“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Internet”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标，打开如图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1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所示的“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Internet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属性”对话框，选择“常规”标签见下图所示。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3278160" cy="335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56680" y="2819520"/>
            <a:ext cx="127764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宋体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宋体"/>
                <a:ea typeface="宋体"/>
              </a:rPr>
              <a:t>2-1  “</a:t>
            </a:r>
            <a:r>
              <a:rPr b="0" lang="en-US" sz="2400" spc="-1" strike="noStrike">
                <a:solidFill>
                  <a:srgbClr val="663300"/>
                </a:solidFill>
                <a:latin typeface="宋体"/>
                <a:ea typeface="宋体"/>
              </a:rPr>
              <a:t>Internet</a:t>
            </a:r>
            <a:r>
              <a:rPr b="0" lang="zh-CN" sz="2400" spc="-1" strike="noStrike">
                <a:solidFill>
                  <a:srgbClr val="663300"/>
                </a:solidFill>
                <a:latin typeface="宋体"/>
                <a:ea typeface="宋体"/>
              </a:rPr>
              <a:t>属性”对话框之“常规”标签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9933"/>
              </a:solidFill>
              <a:latin typeface="Arial Narrow"/>
              <a:ea typeface="宋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19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依次输入接受邮件的服务器地址、发送者的账号、邮箱密码以及接受邮件的服务器地址</a:t>
            </a:r>
            <a:r>
              <a:rPr b="1" lang="zh-CN" sz="2400" spc="-1" strike="noStrike">
                <a:solidFill>
                  <a:srgbClr val="663300"/>
                </a:solidFill>
                <a:latin typeface="Arial Narrow"/>
                <a:ea typeface="宋体"/>
              </a:rPr>
              <a:t> 。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428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68" name="fox4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4876920" cy="3403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327000" y="2514600"/>
            <a:ext cx="9118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40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完成设置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376360" y="2057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71" name="fox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319720" cy="3322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286000" y="5105520"/>
            <a:ext cx="3733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41 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Foxmail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工作界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2.2.2  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设置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黑体"/>
              </a:rPr>
              <a:t>Foxmail</a:t>
            </a: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7194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个人信息设置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2290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77" name="fox6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4800600" cy="3259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571440" y="2286000"/>
            <a:ext cx="91188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42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个人信息设置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9933"/>
              </a:solidFill>
              <a:latin typeface="Arial Narrow"/>
              <a:ea typeface="宋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194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服务器设置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2290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82" name="fox7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4724640" cy="3208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479640" y="1981080"/>
            <a:ext cx="91188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43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服务器设置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9933"/>
              </a:solidFill>
              <a:latin typeface="Arial Narrow"/>
              <a:ea typeface="宋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19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接收邮件设置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2290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87" name="fox9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4267080" cy="2897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327000" y="2057400"/>
            <a:ext cx="91188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44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接受邮件设置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9933"/>
              </a:solidFill>
              <a:latin typeface="Arial Narrow"/>
              <a:ea typeface="宋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19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添加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POP3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账号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2290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2" name="fox10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4419720" cy="3001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251040" y="1981080"/>
            <a:ext cx="911880" cy="335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45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建立新的邮箱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宋体"/>
              </a:rPr>
              <a:t>2.2.3  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  <a:ea typeface="宋体"/>
              </a:rPr>
              <a:t>Foxmail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宋体"/>
              </a:rPr>
              <a:t>的使用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 </a:t>
            </a:r>
            <a:endParaRPr b="1" lang="en-US" sz="3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663300"/>
              </a:solidFill>
              <a:latin typeface="Arial Narrow"/>
              <a:ea typeface="宋体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3281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8" name="fox11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6934320" cy="1076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133720" y="4648320"/>
            <a:ext cx="480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46 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Foxmail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工具栏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9933"/>
              </a:solidFill>
              <a:latin typeface="Arial Narrow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50480" y="1066320"/>
            <a:ext cx="7194600" cy="48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24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撰写邮件                         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marL="2624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发送邮件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marL="2624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用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Foxmail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接收邮件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marL="2624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回复、重发及转发邮件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marL="2624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地址簿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marL="2624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远程邮箱管理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marL="2624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邮箱管理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marL="2624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邮件的管理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marL="2624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过滤器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marL="2624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（如图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47~2-55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所示）</a:t>
            </a:r>
            <a:endParaRPr b="1" lang="en-US" sz="24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376360" y="2486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3" name="fox12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4720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286000" y="487692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47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撰写邮件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467080" y="2109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6" name="fox13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771800" cy="2990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362320" y="510552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48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再次发送邮件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38440" y="2371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3809880"/>
            <a:ext cx="2971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67160" y="2424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733560" cy="3395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14240" y="1905120"/>
            <a:ext cx="911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2  “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设置”对话框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933640" y="2643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9" name="fox1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10440" cy="2595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666880" y="4952880"/>
            <a:ext cx="3962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49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地址簿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38320" y="2257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12" name="fox15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453200" cy="3193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057400" y="5181480"/>
            <a:ext cx="4876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50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添加新的电子邮件地址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243240" y="2367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15" name="fox16" descr=""/>
          <p:cNvPicPr/>
          <p:nvPr/>
        </p:nvPicPr>
        <p:blipFill>
          <a:blip r:embed="rId1"/>
          <a:stretch/>
        </p:blipFill>
        <p:spPr>
          <a:xfrm>
            <a:off x="2286000" y="1230480"/>
            <a:ext cx="4343400" cy="347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90920" y="5105520"/>
            <a:ext cx="3733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51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创建组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871720" y="2319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18" name="fox17" descr=""/>
          <p:cNvPicPr/>
          <p:nvPr/>
        </p:nvPicPr>
        <p:blipFill>
          <a:blip r:embed="rId1"/>
          <a:stretch/>
        </p:blipFill>
        <p:spPr>
          <a:xfrm>
            <a:off x="1981080" y="1062000"/>
            <a:ext cx="5029200" cy="328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362320" y="4952880"/>
            <a:ext cx="396216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52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添加组成员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604960" y="2700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1" name="fox18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700960" cy="2111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438280" y="4876920"/>
            <a:ext cx="3962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53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远程邮箱管理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776680" y="2095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4" name="fox19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876920" cy="3620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90920" y="5181480"/>
            <a:ext cx="403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54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过滤条件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76680" y="2095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7" name="fox20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538520" cy="33703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38280" y="510552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55 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过滤动作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9933"/>
              </a:solidFill>
              <a:latin typeface="Times New Roman"/>
              <a:ea typeface="宋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50480" y="1294920"/>
            <a:ext cx="7194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50"/>
                </a:solidFill>
                <a:latin typeface="Arial"/>
                <a:ea typeface="宋体"/>
              </a:rPr>
              <a:t>Thank you very much!</a:t>
            </a:r>
            <a:endParaRPr b="1" lang="en-US" sz="4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2743920" y="2590920"/>
            <a:ext cx="338112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宋体"/>
              </a:rPr>
              <a:t>本章到此结束，</a:t>
            </a:r>
            <a:endParaRPr b="0" lang="en-US" sz="6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宋体"/>
              </a:rPr>
              <a:t>谢谢您的光临！</a:t>
            </a:r>
            <a:endParaRPr b="0" lang="en-US" sz="6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endshow"/>
          </p:cNvPr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结束放映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52640" y="2543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300640" cy="2730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00200" y="5029200"/>
            <a:ext cx="556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3  “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Temporary Internet Files”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窗口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331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“安全”标签的设置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在如图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2-1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所示的“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Internet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属性”对话框中，单击“安全”标签，如下图 。</a:t>
            </a:r>
            <a:r>
              <a:rPr b="1" lang="zh-CN" sz="2800" spc="-1" strike="noStrike">
                <a:solidFill>
                  <a:srgbClr val="6633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3433680" y="2266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3508200" cy="3581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04040" y="2438280"/>
            <a:ext cx="1277640" cy="35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4  “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Internet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属性”对话框之“安全”标签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52920" y="2371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370320" cy="3876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14600" y="5410080"/>
            <a:ext cx="3809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5  “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安全设置”对话框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65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6480" indent="0" algn="just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．“内容”标签的设置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276480" indent="-276480" algn="just">
              <a:lnSpc>
                <a:spcPct val="8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在如图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2-1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所示“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Internet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属性”对话框中，单击“内容”标签，参见图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2-6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5" name=""/>
          <p:cNvSpPr/>
          <p:nvPr/>
        </p:nvSpPr>
        <p:spPr>
          <a:xfrm>
            <a:off x="3529080" y="2367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3282840" cy="3343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8400" y="2209680"/>
            <a:ext cx="91188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6  “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Internet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属性”对话框 之“内容”标签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29160" y="2938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4343400" cy="2260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38400" y="2971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5257800" cy="1568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0" y="5791320"/>
            <a:ext cx="426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8  “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分级审查”提示框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9640" y="838080"/>
            <a:ext cx="91188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2-7  “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创建监护人密码”对话框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6T00:46:52Z</dcterms:created>
  <dc:creator>Andy Sweet</dc:creator>
  <dc:description/>
  <dc:language>en-US</dc:language>
  <cp:lastModifiedBy>ya6</cp:lastModifiedBy>
  <dcterms:modified xsi:type="dcterms:W3CDTF">2003-03-01T06:33:02Z</dcterms:modified>
  <cp:revision>86</cp:revision>
  <dc:subject/>
  <dc:title>Module 7: Designing a Multiple Domain Structure</dc:title>
</cp:coreProperties>
</file>